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CAF5-3DEA-4072-9B7C-F620A9FA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95E5-8F13-43A4-A5B3-B54C85B4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94A-70FD-4005-8F52-49AC510A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1D0-B730-49B5-8EC8-38C9D2ED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6742-682D-457F-A22A-79B4E20B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C9ED-2358-46B1-8040-38289235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E690-F843-40DF-A235-0C1E659B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B3B7-2780-40EC-9E69-D789B912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1309-D3A8-4E50-A09B-6626CDFE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EC1D-2863-49C8-BD81-779E06EE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2EA1-08D4-49F3-998F-1F2C563D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601-1694-4A25-A673-BFAAD2A1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7DA1-8B21-45E2-B0DD-ACC536FE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7796-C248-40C6-B6C9-4FA1E7C1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41EA-4DF1-43D3-8023-13943336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350D-3818-496B-968F-42142D03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A283-9DA2-4C24-852D-C5C15574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0A8-3E81-41AC-B939-814DBD86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ECC-7854-4564-A29E-7E86FE7E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301-BC2C-45A1-9D6A-2EC0F6F2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D6C-75CD-4BCE-ACEB-2F260514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447-20E5-4FD4-A06F-7409B580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4457-6343-4B75-BA4C-C989BCCA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C81D-0F6D-4061-A416-726497EB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D483-290A-466F-96A2-12CFDA8BC80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7360-1777-4FE3-BF41-F0D0EBA035A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m.ask.com/r?t=c&amp;s=p&amp;sv=0a30050b&amp;uid=083FBC59D4D1E4D34&amp;sid=13022D59D4D1E4D34&amp;o=0&amp;id=30751&amp;p=fr&amp;u=http%3A%2F%2Fwww0.bbc.co.uk%2Fhealth%2Fkids%2Fimages%2Farmbent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tm.ask.com/r?t=an&amp;s=p&amp;uid=083FBC59D4D1E4D34&amp;sid=13022D59D4D1E4D34&amp;o=0&amp;qid=039368AB363D9A384FE91F64FFA2604D&amp;io=4&amp;sv=0a300519&amp;ask=arm+Muscles&amp;uip=d4dbf7e5&amp;en=js&amp;eo=&amp;pt=&amp;ac=18&amp;qs=31&amp;pg=1&amp;u=http%3A%2F%2Fpictures.ask.com%2Ffr%3Fq%3Darm%2BMuscles%26desturi%3Dhttp%253A%252F%252Fwww0.bbc.co.uk%252Fhealth%252Fkids%252Fmuscles.shtml%26fm%3Di%26ac%3D18%26ftURI%3Dhttp%253A%252F%252Fpictures.ask.com%253A80%252Ffr%253Fq%253Darm%252BMuscles%2526desturi%253Dhttp%25253A%25252F%25252Fwww0.bbc.co.uk%25252Fhealth%25252Fkids%25252Fmuscles.shtml%2526imagesrc%253Dhttp%25253A%25252F%25252Fwww0.bbc.co.uk%25252Fhealth%25252Fkids%25252Fimages%25252Farmstraight.gif%2526thumbsrc%253Dhttp%25253A%25252F%25252F65.214.37.88%25252Fts%25253Ft%25253D4038306161129618050%2526fn%253Darmstraight.gif%2526f%253D2%2526fm%253Di%2526ftbURI%253Dhttp%25253A%25252F%25252Fpictures.ask.com%25252Fpictures%25253Fq%25253Darm%25252BMuscles%252526page%25253D1%26qt%3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83FBC59D4D1E4D34&amp;sid=165455E92C0967D34&amp;o=0&amp;qid=2C79F240DC2C16C68955785363F2072B&amp;io=12&amp;sv=0a300515&amp;ask=joints&amp;uip=d4dbf7e5&amp;en=js&amp;eo=&amp;pt=&amp;ac=18&amp;qs=86&amp;pg=1&amp;u=http%3A%2F%2Fpictures.ask.com%2Ffr%3Fq%3Djoints%26desturi%3Dhttp%253A%252F%252Fwww.gentili.net%252FFBI%252Fshoulder.htm%26fm%3Di%26ac%3D18%26ftURI%3Dhttp%253A%252F%252Fpictures.ask.com%253A80%252Ffr%253Fq%253Djoints%2526desturi%253Dhttp%25253A%25252F%25252Fwww.gentili.net%25252FFBI%25252Fshoulder.htm%2526imagesrc%253Dhttp%25253A%25252F%25252Fwww.gentili.net%25252FFBI%25252Fshoulder.gif%2526thumbsrc%253Dhttp%25253A%25252F%25252F65.214.37.88%25252Fts%25253Ft%25253D13174491791587871105%2526fn%253Dshoulder.gif%2526f%253D2%2526fm%253Di%2526ftbURI%253Dhttp%25253A%25252F%25252Fpictures.ask.com%25252Fpictures%25253Fq%25253Djoints%252526page%25253D1%26qt%3D0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tm.ask.com/r?t=an&amp;s=p&amp;uid=083FBC59D4D1E4D34&amp;sid=165455E92C0967D34&amp;o=0&amp;qid=A5776E109725355B229C2605EEAB6F0A&amp;io=0&amp;sv=0a30052a&amp;ask=gliding+joints&amp;uip=d4dbf7e5&amp;en=js&amp;eo=&amp;pt=&amp;ac=18&amp;qs=31&amp;pg=1&amp;u=http%3A%2F%2Fpictures.ask.com%2Ffr%3Fq%3Dgliding%2Bjoints%26desturi%3Dhttp%253A%252F%252Fwww.spineuniverse.com%252Fprint.php%252Farticle1894.html%26fm%3Di%26ac%3D18%26ftURI%3Dhttp%253A%252F%252Fpictures.ask.com%253A80%252Ffr%253Fq%253Dgliding%252Bjoints%2526desturi%253Dhttp%25253A%25252F%25252Fwww.spineuniverse.com%25252Fprint.php%25252Farticle1894.html%2526imagesrc%253Dhttp%25253A%25252F%25252Fwww.spineuniverse.com%25252Fdisplaygraphic.php%25252F145%25252Ffacetjoints2-BB.jpg%2526thumbsrc%253Dhttp%25253A%25252F%25252F65.214.37.88%25252Fts%25253Ft%25253D16690437589579715057%2526fn%253Dfacetjoints2-BB.jpg%2526f%253D2%2526fm%253Di%2526ftbURI%253Dhttp%25253A%25252F%25252Fpictures.ask.com%25252Fpictures%25253Fq%25253Dgliding%25252Bjoints%252526page%25253D1%26qt%3D0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tm.ask.com/r?t=an&amp;s=p&amp;uid=083FBC59D4D1E4D34&amp;sid=165455E92C0967D34&amp;o=0&amp;qid=5A38C3776C2FAC488E6962AC4EB5C017&amp;io=6&amp;sv=0a300517&amp;ask=human+skull&amp;uip=d4dbf7e5&amp;en=js&amp;eo=&amp;pt=&amp;ac=18&amp;qs=31&amp;pg=1&amp;u=http%3A%2F%2Fpictures.ask.com%2Ffr%3Fq%3Dhuman%2Bskull%26desturi%3Dhttp%253A%252F%252Fwww.human-anatomy.com%252Fhuman-anatomy%252Fsh210A.htm%26fm%3Di%26ac%3D18%26ftURI%3Dhttp%253A%252F%252Fpictures.ask.com%253A80%252Ffr%253Fq%253Dhuman%252Bskull%2526desturi%253Dhttp%25253A%25252F%25252Fwww.human-anatomy.com%25252Fhuman-anatomy%25252Fsh210A.htm%2526imagesrc%253Dhttp%25253A%25252F%25252Fwww.human-anatomy.com%25252Fhuman-anatomy%25252Fimages%25252Fsh210-bony.gif%2526thumbsrc%253Dhttp%25253A%25252F%25252F65.214.37.88%25252Fts%25253Ft%25253D10338508647224835938%2526fn%253Dsh210-bony.gif%2526f%253D2%2526fm%253Di%2526ftbURI%253Dhttp%25253A%25252F%25252Fpictures.ask.com%25252Fpictures%25253Fq%25253Dhuman%25252Bskull%252526page%25253D1%26qt%3D0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tm.ask.com/r?t=an&amp;s=p&amp;uid=083FBC59D4D1E4D34&amp;sid=165455E92C0967D34&amp;o=0&amp;qid=FAD4371796D6D629ACE4B66866A3B5D0&amp;io=9&amp;sv=0a30051c&amp;ask=hinge+joints&amp;uip=d4dbf7e5&amp;en=pi&amp;eo=&amp;pt=&amp;ac=18&amp;qs=31&amp;pg=1&amp;u=http%3A%2F%2Fpictures.ask.com%2Ffr%3Fq%3Dhinge%2Bjoints%26desturi%3Dhttp%253A%252F%252Fiw.newsbank.com%252Felementary%252Farticles%252Fuk980832.htm%26fm%3Di%26ac%3D18%26ftURI%3Dhttp%253A%252F%252Fpictures.ask.com%253A80%252Ffr%253Fq%253Dhinge%252Bjoints%2526desturi%253Dhttp%25253A%25252F%25252Fiw.newsbank.com%25252Felementary%25252Farticles%25252Fuk980832.htm%2526imagesrc%253Dhttp%25253A%25252F%25252Fiw.newsbank.com%25252Felementary%25252Fimages%25252F0D63F1D765500760.JPG%2526thumbsrc%253Dhttp%25253A%25252F%25252F65.214.37.88%25252Fts%25253Ft%25253D8677921219417759163%2526fn%253D0D63F1D765500760.JPG%2526f%253D2%2526fm%253Di%2526ftbURI%253Dhttp%25253A%25252F%25252Fpictures.ask.com%25252Fpictures%25253Fq%25253Dhinge%25252Bjoints%252526page%25253D1%26qt%3D0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83FBC59D4D1E4D34&amp;sid=165455E92C0967D34&amp;o=0&amp;qid=E8BA35C3E8E7036F8C3E07B4A4E3954C&amp;io=1&amp;sv=0a300511&amp;ask=x-rays+of+broken+bones&amp;uip=d4dbf7e5&amp;en=js&amp;eo=&amp;pt=&amp;ac=18&amp;qs=31&amp;pg=1&amp;u=http%3A%2F%2Fpictures.ask.com%2Ffr%3Fq%3Dx-rays%2Bof%2Bbroken%2Bbones%26desturi%3Dhttp%253A%252F%252Fwww.kurtzandblum.com%252Fpersonalinjury.html%26fm%3Di%26ac%3D18%26ftURI%3Dhttp%253A%252F%252Fpictures.ask.com%253A80%252Ffr%253Fq%253Dx-rays%252Bof%252Bbroken%252Bbones%2526desturi%253Dhttp%25253A%25252F%25252Fwww.kurtzandblum.com%25252Fpersonalinjury.html%2526imagesrc%253Dhttp%25253A%25252F%25252Fwww.kurtzandblum.com%25252Fimages%25252Fbrokenbones.jpg%2526thumbsrc%253Dhttp%25253A%25252F%25252F65.214.37.88%25252Fts%25253Ft%25253D10084139087746007837%2526fn%253Dbrokenbones.jpg%2526f%253D2%2526fm%253Di%2526ftbURI%253Dhttp%25253A%25252F%25252Fpictures.ask.com%25252Fpictures%25253Fq%25253Dx-rays%25252Bof%25252Bbroken%25252Bbones%252526page%25253D1%26qt%3D0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340000" y="765000"/>
            <a:ext cx="4608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ife Process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619280" y="5013360"/>
            <a:ext cx="60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y Kara and Caitlin S2.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360" y="2421000"/>
            <a:ext cx="230364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059280" y="476280"/>
            <a:ext cx="280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END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y Kara Ortchis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d Caitlin Mall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d a little help from Mrs. Wat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 contains living and non-living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in gases in air are nitrogen, oxygen and carbon diox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ses from the air are carried by the blood and is pumped around the body by the hear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ight side of the heart pumps blood to the lungs and the left side pumps it to the rest of the bod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eries take blood away from the heart and veins return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916360" y="333360"/>
            <a:ext cx="39592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ir and bloo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00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37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206 bones in the human bod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skeleton is made of bone which contains organic (protein) materials and calcium salts (inorgani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several types if moving joints. Moving joints are lubric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0"/>
            <a:ext cx="4032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ones and moveme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3851280" cy="6496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00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ifferent body systems work together when you exerci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en you exercise pulse and breathing rates incre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f the working cells do not get enough oxygen you go into oxygen deb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63640" y="333360"/>
            <a:ext cx="54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orking togeth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newsflash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armben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25720" y="2368440"/>
            <a:ext cx="1778040" cy="1206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a muscle contracts (shortens) it pulls on a bone and makes it mo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you look at joints the muscles are arranged in pairs called antagonis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1 muscle of a pair contracts the other is relax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987640" y="189000"/>
            <a:ext cx="273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usc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4000" y="3789360"/>
            <a:ext cx="1397160" cy="2641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059280" y="189000"/>
            <a:ext cx="2663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oin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are four types of jo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all and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li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924280"/>
            <a:ext cx="2387880" cy="280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3179880"/>
            <a:ext cx="2808360" cy="218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3213000"/>
            <a:ext cx="1760760" cy="2303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80000" y="2997360"/>
            <a:ext cx="2808360" cy="26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ones can be damaged but can still he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amaged bones can be detected by x-r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773360"/>
            <a:ext cx="2232000" cy="2168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692360" y="40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amaged Bon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796000" y="4365720"/>
            <a:ext cx="2448000" cy="1819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4010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ir enters the chest and follows the route of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se/mouth      Windpipe      Bronchus     Bronchiole             Air sacs in lung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24000" y="189000"/>
            <a:ext cx="482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reathing in ai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19640" y="2349360"/>
            <a:ext cx="316872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21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ells get energy from materials like gluco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y need oxygen to break down these material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en the cells respire, carbon dioxide is made. It will diffuse from a cell into the blood of the capillary and then is transferred to the lungs to be breathed ou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en oxygen is breathed in it travels from the lungs to all the places where it is needed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124000" y="260280"/>
            <a:ext cx="4896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as Exchang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006640" cy="2649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4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9:59:30Z</dcterms:created>
  <dc:creator>malloyc</dc:creator>
  <dc:description/>
  <dc:language>en-US</dc:language>
  <cp:lastModifiedBy>ortchisonk</cp:lastModifiedBy>
  <dcterms:modified xsi:type="dcterms:W3CDTF">2006-01-26T15:16:05Z</dcterms:modified>
  <cp:revision>17</cp:revision>
  <dc:subject/>
  <dc:title>Slide 1</dc:title>
</cp:coreProperties>
</file>