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587-5AD5-4E21-AA64-59861EA6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698-7CF1-4D6D-8E01-0332CBC1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504-35B5-4E27-871C-7A3FFC7A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30A-C70C-45E7-875B-09C0366D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3D8D-DA44-4FC4-B917-85CDC521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7DC-0F35-4550-8C61-209BBAE2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DA1-302A-4893-95B6-8D5D043B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B849-A9F2-4AF0-AE5D-EE3E1172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391-5CB9-483F-A0A0-FF9A2576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770-4583-442E-99A9-2856F70D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47E-17FA-4808-9724-553C9D7F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F23-B884-4144-A4DA-03692FE8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A633-DE68-42C6-A63D-E92E70377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m.ask.com/r?t=an&amp;s=p&amp;uid=052B37403B1A67D34&amp;sid=1C5C87403B1A67D34&amp;o=0&amp;qid=6D3B7925960569EAA9C3D2EC4EE35DFF&amp;io=1&amp;sv=0a30051c&amp;ask=muscle+tissue&amp;uip=d4dbf7e5&amp;en=pi&amp;eo=&amp;pt=&amp;ac=18&amp;qs=31&amp;pg=5&amp;u=http%3A%2F%2Fpictures.ask.com%2Ffr%3Fq%3Dmuscle%2Btissue%26desturi%3Dhttp%253A%252F%252Fwww.cals.ncsu.edu%252Fcourse%252Fzo250%252Fmuscle.html%26fm%3Di%26ac%3D18%26ftURI%3Dhttp%253A%252F%252Fpictures.ask.com%253A80%252Ffr%253Fq%253Dmuscle%252Btissue%2526desturi%253Dhttp%25253A%25252F%25252Fwww.cals.ncsu.edu%25252Fcourse%25252Fzo250%25252Fmuscle.html%2526imagesrc%253Dhttp%25253A%25252F%25252Fwww.cals.ncsu.edu%25252Fcourse%25252Fzo250%25252Fskeletal-muscle.jpg%2526thumbsrc%253Dhttp%25253A%25252F%25252F65.214.37.88%25252Fts%25253Ft%25253D14868575377488000076%2526fn%253Dskeletal-muscle.jpg%2526f%253D2%2526fm%253Di%2526ftbURI%253Dhttp%25253A%25252F%25252Fpictures.ask.com%25252Fpictures%25253Fq%25253Dmuscle%25252Btissue%252526page%25253D5%26qt%3D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0" spc="-1" strike="noStrike">
                <a:solidFill>
                  <a:srgbClr val="008000"/>
                </a:solidFill>
                <a:latin typeface="Arial"/>
              </a:rPr>
              <a:t>Patterns in lif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Joanna Fellows &amp; Euan Lau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Plant Org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have organs just like humans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fruit, leaf, flower, stem and the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35640" y="2060640"/>
            <a:ext cx="25304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00000" y="2133720"/>
            <a:ext cx="72723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7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END!!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33cc"/>
                </a:solidFill>
                <a:latin typeface="Arial"/>
              </a:rPr>
              <a:t>Living 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ll living things have things in common, they all breathe, move, grow, eat, reproduce, get rid of waste and react to things that happen around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3573360"/>
            <a:ext cx="280800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003300"/>
                </a:solidFill>
                <a:latin typeface="Arial"/>
              </a:rPr>
              <a:t>Pl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Plants breathe by opening tiny holes in their leaves called stoma which let in the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Plants do not move from place to place they move their leaves  towards the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Most plants grow from seeds. Seeds are made when pollen grains join up with an ov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Plants make their own food by using water and carbon dioxide from the 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Plants react to light, their leaves follow the sun and some plants have flowers that open in the morning and close at night when it is d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00"/>
                </a:solidFill>
                <a:latin typeface="Arial"/>
              </a:rPr>
              <a:t>Many plants keep waste in their leaves these drop off in autumn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SUNFLOWERS02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All animals breathe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Animals move from place to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Most animals come from eg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Animals eat plants or other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All animals get rid of waste which they have to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</a:rPr>
              <a:t>.All animals react to things because they must be aware of what is happening around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3280" y="2070000"/>
            <a:ext cx="4249800" cy="34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ving things are made up of cells, just like bricks make a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 cells are different from animal cells. They have different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cells have a nucleus and a cell membr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1917720" cy="2046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42840" y="3938760"/>
            <a:ext cx="30657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Kinds o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cells carry oxygen around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ard cells open and close the stoma In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rve cells carry a message from one part of the body to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rm cells swim to the female eggs and try and join up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49960" y="1341360"/>
            <a:ext cx="31827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Arial"/>
              </a:rPr>
              <a:t>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ff66"/>
                </a:solidFill>
                <a:latin typeface="Arial"/>
              </a:rPr>
              <a:t>The cells in our bodies do not work alone they work as part of a tissue. A tissue is made up of lots of cells of the same kind which work together. Organs are made up of lots of tiss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2060640"/>
            <a:ext cx="3365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living things in the world can be split up into two groups, these can then be split up into smaller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two groups are plants and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s are split up into vertebrates and inverteb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s are split into non-flowering and flow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 classification diagrams are similar to this one of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35600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share the earth with 1.5 million kinds of livi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different varieties of all the livi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not all cats are the same and not all roses ar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25686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10:08:29Z</dcterms:created>
  <dc:creator>FellowsJ</dc:creator>
  <dc:description/>
  <dc:language>en-US</dc:language>
  <cp:lastModifiedBy>fellowsJ</cp:lastModifiedBy>
  <dcterms:modified xsi:type="dcterms:W3CDTF">2006-01-26T15:17:57Z</dcterms:modified>
  <cp:revision>8</cp:revision>
  <dc:subject/>
  <dc:title>PATTERNS IN LIFE</dc:title>
</cp:coreProperties>
</file>