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E96-077F-4C7B-8CFD-1D40877C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D43-D63F-4DFB-811B-3ED184A5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F71-27B1-45EF-9F9C-47931A32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CAE-7A25-4A92-9902-2428555AC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293-3808-4109-AA65-F6870CC2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6F5-78FC-477F-9F85-44557D86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933-0674-49E0-8065-90A8E179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850-22A3-47AA-BE4A-2EF0B8C0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FFE-C0D7-4966-B7CA-09C0C7EE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DFA-4BD6-4FC0-A7A9-A0995AC3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0E9-7BE5-4758-9FBA-F75DB210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9E6-FF51-4CAE-AD49-422E8322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7343-6AB0-455F-AD78-949DED1B7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52B37403B1A67D34&amp;sid=1C5C87403B1A67D34&amp;o=0&amp;qid=6D3B7925960569EAA9C3D2EC4EE35DFF&amp;io=1&amp;sv=0a30051c&amp;ask=muscle+tissue&amp;uip=d4dbf7e5&amp;en=pi&amp;eo=&amp;pt=&amp;ac=18&amp;qs=31&amp;pg=5&amp;u=http%3A%2F%2Fpictures.ask.com%2Ffr%3Fq%3Dmuscle%2Btissue%26desturi%3Dhttp%253A%252F%252Fwww.cals.ncsu.edu%252Fcourse%252Fzo250%252Fmuscle.html%26fm%3Di%26ac%3D18%26ftURI%3Dhttp%253A%252F%252Fpictures.ask.com%253A80%252Ffr%253Fq%253Dmuscle%252Btissue%2526desturi%253Dhttp%25253A%25252F%25252Fwww.cals.ncsu.edu%25252Fcourse%25252Fzo250%25252Fmuscle.html%2526imagesrc%253Dhttp%25253A%25252F%25252Fwww.cals.ncsu.edu%25252Fcourse%25252Fzo250%25252Fskeletal-muscle.jpg%2526thumbsrc%253Dhttp%25253A%25252F%25252F65.214.37.88%25252Fts%25253Ft%25253D14868575377488000076%2526fn%253Dskeletal-muscle.jpg%2526f%253D2%2526fm%253Di%2526ftbURI%253Dhttp%25253A%25252F%25252Fpictures.ask.com%25252Fpictures%25253Fq%25253Dmuscle%25252Btissue%252526page%25253D5%26qt%3D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8000"/>
                </a:solidFill>
                <a:latin typeface="Arial"/>
              </a:rPr>
              <a:t>Patterns in li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Joanna Fellows &amp; Euan Lau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Plant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have organs just like humans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fruit, leaf, flower, stem and the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2530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00000" y="2133720"/>
            <a:ext cx="7272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7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END!!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33cc"/>
                </a:solidFill>
                <a:latin typeface="Arial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ll living things have things in common, they all breathe, move, grow, eat, reproduce, get rid of waste and react to things that happen arou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808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0033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breathe by opening tiny holes in their leaves called stoma which let in the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do not move from place to place they move their leaves  towards the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ost plants grow from seeds. Seeds are made when pollen grains join up with an ov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make their own food by using water and carbon dioxide from the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react to light, their leaves follow the sun and some plants have flowers that open in the morning and close at night when it is d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any plants keep waste in their leaves these drop off in autumn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SUNFLOWERS02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All animals brea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nimals move from place to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Most animals come from eg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nimals eat plants or other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ll animals get rid of waste which they have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ll animals react to things because they must be aware of what is happening around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3280" y="2070000"/>
            <a:ext cx="424980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ing things are made up of cells, just like bricks make a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 cells are different from animal cells. They have different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cells have a nucleus and a cell 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1917720" cy="2046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42840" y="3938760"/>
            <a:ext cx="30657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Kind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cells carry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d cells open and close the stoma In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rve cells carry a message from one part of the body to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cells swim to the female eggs and try and join up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49960" y="1341360"/>
            <a:ext cx="31827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Arial"/>
              </a:rPr>
              <a:t>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66"/>
                </a:solidFill>
                <a:latin typeface="Arial"/>
              </a:rPr>
              <a:t>The cells in our bodies do not work alone they work as part of a tissue. A tissue is made up of lots of cells of the same kind which work together. Organs are made up of lots of t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060640"/>
            <a:ext cx="336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living things in the world can be split up into two groups, these can then be split up into smaller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wo groups are plants an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s are split up into vertebrates and inverteb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are split into non-flowering and flow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lassification diagrams are similar to this one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35600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share the earth with 1.5 million kinds of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different varieties of all the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not all cats are the same and not all ros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25686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8:29Z</dcterms:created>
  <dc:creator>FellowsJ</dc:creator>
  <dc:description/>
  <dc:language>en-US</dc:language>
  <cp:lastModifiedBy>fellowsJ</cp:lastModifiedBy>
  <dcterms:modified xsi:type="dcterms:W3CDTF">2006-01-26T15:17:57Z</dcterms:modified>
  <cp:revision>8</cp:revision>
  <dc:subject/>
  <dc:title>PATTERNS IN LIFE</dc:title>
</cp:coreProperties>
</file>