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ADF-1F11-4AEF-B18D-95D4D973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DC6-C787-4D3E-990E-671EAADE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2D0-EE9F-4A35-BDC5-FF54C8A7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14F-DA68-4126-B487-D0036516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3CE-80FB-4BCE-BE34-9F83CE2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AB9-F310-4833-8CB0-1536DFEF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7B6-6D9D-4345-A673-F58B40E3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ADC-E269-4F96-83A4-2BFFC497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EBC-333B-4EAC-8BBE-23806F9A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E52-2DD4-4A59-A2EC-0E7A00F5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FD8F-9A7C-4ADE-9D23-41E43330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9BE-2EFE-43F9-BD75-D0E0FDA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78B7-187B-4992-9A1F-BCD4AFE1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ramainnature.com/photograph_of_sun_smoke_idaho_2000_poster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haffy.org/lightning/lightning000225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Black"/>
              </a:rPr>
              <a:t>Looking at ligh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44464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Cameron brown and Dylan Tay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FireSunIdahothumb.JPG (304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341360"/>
            <a:ext cx="8964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 Black"/>
              </a:rPr>
              <a:t>Light Fa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71391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things around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different ways of making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in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Lets us see in dark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ght travels 300 million metres every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tebulb"/>
          <p:cNvSpPr/>
          <p:nvPr/>
        </p:nvSpPr>
        <p:spPr>
          <a:xfrm>
            <a:off x="6283440" y="2276640"/>
            <a:ext cx="2860560" cy="3206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Light and sha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the materials let light go straight through them( like glass) they are called trans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 not let a lot of light through them they are transluc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some materials don’t let any light through them .they are opaque . Opaque  materials make sha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484280"/>
            <a:ext cx="3606840" cy="215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eing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materials reflect when the light shines on them. (Absorb the rest of the 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en objects reflect green light when you shine a torch on it and White objects reflect all the colours when you shine a torch on it Black objects do not shine any colou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3:10Z</dcterms:created>
  <dc:creator>taylordy</dc:creator>
  <dc:description/>
  <dc:language>en-US</dc:language>
  <cp:lastModifiedBy>taylordy</cp:lastModifiedBy>
  <dcterms:modified xsi:type="dcterms:W3CDTF">2006-01-25T12:43:44Z</dcterms:modified>
  <cp:revision>6</cp:revision>
  <dc:subject/>
  <dc:title>Looking at light</dc:title>
</cp:coreProperties>
</file>