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D12-1EAA-4440-BBF7-3800594D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6CB-2F78-45ED-B3AC-943A5D86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176-E774-40CB-877D-5F94E26B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AAA-4509-4D8D-A8E9-9E8ACA30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822-412D-467D-B160-29276F9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C1A-9D6A-4F5F-9932-7F2FF2E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923-64BB-497B-9E7F-A3BDD8C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581-277B-496E-90C7-400442A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E6E-7F5D-42F3-95F7-DB2B8C39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05C-3F3F-45D8-8F29-73C3503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0B6-C904-4989-A990-3CC5376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A14-B5B6-4F50-BE07-A093BAE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F5D-B97C-4C50-8C35-28A7A4B2A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amainnature.com/photograph_of_sun_smoke_idaho_2000_poster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haffy.org/lightning/lightning000225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Looking at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44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Cameron brown and Dylan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reSunIdahothumb.JPG (304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96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Black"/>
              </a:rPr>
              <a:t>Light F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thing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different ways of making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in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in dark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300 million metres every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tebulb"/>
          <p:cNvSpPr/>
          <p:nvPr/>
        </p:nvSpPr>
        <p:spPr>
          <a:xfrm>
            <a:off x="6283440" y="2276640"/>
            <a:ext cx="2860560" cy="3206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ight and sha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the materials let light go straight through them( like glass) they are called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 not let a lot of light through them they are transluc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n’t let any light through them .they are opaque . Opaque  materials make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3606840" cy="21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e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materials reflect when the light shines on them. (Absorb the rest of the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objects reflect green light when you shine a torch on it and White objects reflect all the colours when you shine a torch on it Black objects do not shine any col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3:10Z</dcterms:created>
  <dc:creator>taylordy</dc:creator>
  <dc:description/>
  <dc:language>en-US</dc:language>
  <cp:lastModifiedBy>taylordy</cp:lastModifiedBy>
  <dcterms:modified xsi:type="dcterms:W3CDTF">2006-01-25T12:43:44Z</dcterms:modified>
  <cp:revision>6</cp:revision>
  <dc:subject/>
  <dc:title>Looking at light</dc:title>
</cp:coreProperties>
</file>