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6.png" ContentType="image/png"/>
  <Override PartName="/ppt/media/image7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F55B-7A65-459E-89E5-C99341E1C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09F5-0894-4D7B-81F2-35BAD359E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27CC-861D-45F1-A0AB-E5D532BC9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F51B-1FA9-4298-93A5-042BABE64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7B72-9DA8-4156-AF44-A2BABEE1A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A613-B0D7-4755-8221-84932B2DC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8F96-1D90-4EAD-94EC-34897977D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4766-0318-40DB-A96D-E1C860494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56A7-9A21-4D27-AF28-75C320341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61BE-7C14-4B8E-B130-0AF614D42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B432-41B3-4062-8EA5-AA060BEE6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8F0C-01C8-4652-85A7-CA358EF7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43429-92EC-4B53-BD61-993A416895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rds.yahoo.com/_ylt=A0SO7CamtNBDUHYAl_5XNyoA;_ylu=X3oDMTEwNTJsdXY0BGNvbG8DZQRwb3MDMgRzZWMDc2MEdnRpZANGNjczXzg3/SIG=1hi6phls4/EXP=1137837606/**http%3A//images.search.yahoo.com/search/images/view%3Fback=http%253A%252F%252Fsearch.yahoo.com%252Fsearch%253Fp%253Dpicts%252Bof%252Blightening%2526ei%253DUTF-8%2526fl%253D0%26h=324%26w=439%26imgcurl=www.captaingfb.com%252FLIGHTENING_STRIKE.jpg%26imgurl=www.captaingfb.com%252FLIGHTENING_STRIKE.jpg%26size=26.8kB%26name=LIGHTENING_STRIKE.jpg%26rcurl=http%253A%252F%252Fwww.captaingfb.com%252Fweatherlinks.html%26rurl=http%253A%252F%252Fwww.captaingfb.com%252Fweatherlinks.html%26p=lightening%26type=jpeg%26no=2%26tt=24%252C493%26fr=FP-tab-web-t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www.captaingfb.com/LIGHTENING_STRIK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Electricity on the mo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By Donald and J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84320" y="2565360"/>
            <a:ext cx="1508040" cy="15238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 flipH="1">
            <a:off x="7578720" y="2565360"/>
            <a:ext cx="156528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77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770" fill="hold"/>
                                        <p:tgtEl>
                                          <p:spTgt spid="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It is hazardou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Use electrical appliances near wa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Overload electrical circuits, use faulty appliances, tamper with electrical applia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Young children should always be protected against the hazards of electricity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0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3" dur="1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6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9" dur="1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Electric Circuit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Electrical components only work when they are a part of a complete circu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Electrical components are such things as bulbs, batteries, buzzers, resistor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Switches are used to control electric circuits by switching them on/of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ircui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835280" y="1268280"/>
          <a:ext cx="5616360" cy="480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268280"/>
                    <a:ext cx="5616360" cy="480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wit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switch that you find to control a light is called a flip swit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keyboard that we used for this presentation contains a push swit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43280" y="2781360"/>
          <a:ext cx="3819600" cy="214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3280" y="2781360"/>
                    <a:ext cx="3819600" cy="21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925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" dur="1925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" dur="1925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9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" dur="1925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925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925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1925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1925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Electric Hospital troll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A motor is an electrical component which transfers electrical energy to kinetic energy. An electrical trolley shows this in 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Adding more batteries increases the voltage. This makes the current flow and makes the trolley move fa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www.cobb.k12.ga.us/~Simpson/Teacher%20Sites/Teacher%20Sites/Electricit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www.schellelectronics.com/SE%20WEB%20Pictures/Power%20of%20Electricity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lectric Cur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lectric current is a flow of charg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urrent is measured in amperes/amps for shor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0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3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Using a resistor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Resisters are used to control the size of current that flows in the circu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Big resistors allow only small currents to f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Small resistors allow large currents to f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There are two types of resistor fixed and variable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You can control the speed of the trolley with a variable resistor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227640" y="1844640"/>
            <a:ext cx="155736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385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1" dur="385" fill="hold"/>
                                        <p:tgtEl>
                                          <p:spTgt spid="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3" dur="385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5" dur="385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7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925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4" dur="1925" fill="hold"/>
                                        <p:tgtEl>
                                          <p:spTgt spid="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5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6" dur="1925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7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8" dur="1925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9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I hope you have enjoyed our presentation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0" spc="-1" strike="noStrike" u="sng">
                <a:solidFill>
                  <a:srgbClr val="ff0000"/>
                </a:solidFill>
                <a:uFillTx/>
                <a:latin typeface="Monotype Corsiva"/>
              </a:rPr>
              <a:t>The End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41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40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77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6" dur="77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8" dur="77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0" dur="77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0T10:00:26Z</dcterms:created>
  <dc:creator>HalbertD</dc:creator>
  <dc:description/>
  <dc:language>en-US</dc:language>
  <cp:lastModifiedBy>Halbertd</cp:lastModifiedBy>
  <dcterms:modified xsi:type="dcterms:W3CDTF">2006-01-26T15:16:52Z</dcterms:modified>
  <cp:revision>14</cp:revision>
  <dc:subject/>
  <dc:title>Electricity on the move</dc:title>
</cp:coreProperties>
</file>