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92A-F4E5-4F43-A5A9-E19C5605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1F3-D3E4-408C-A4DC-5A6A467D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D24-E7F5-4742-8785-DA960215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3EC-1D3D-4FED-AD87-F56F8825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512-0C11-4C88-8748-6D57231F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597-7FA1-45B0-8773-B5A34694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92D-4007-430E-99AE-F9D1F354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7C1-C4A6-447F-A943-807CECEC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EA9E-5C75-4E43-940B-4EDFFC92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EC3-353A-4E1A-90B0-0BA6C27D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A5B-5664-400D-819C-66C55E77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714-F586-4981-A904-81A20DF9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C563-E875-4AA9-81A9-C66CF1EF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SO7CamtNBDUHYAl_5XNyoA;_ylu=X3oDMTEwNTJsdXY0BGNvbG8DZQRwb3MDMgRzZWMDc2MEdnRpZANGNjczXzg3/SIG=1hi6phls4/EXP=1137837606/**http%3A//images.search.yahoo.com/search/images/view%3Fback=http%253A%252F%252Fsearch.yahoo.com%252Fsearch%253Fp%253Dpicts%252Bof%252Blightening%2526ei%253DUTF-8%2526fl%253D0%26h=324%26w=439%26imgcurl=www.captaingfb.com%252FLIGHTENING_STRIKE.jpg%26imgurl=www.captaingfb.com%252FLIGHTENING_STRIKE.jpg%26size=26.8kB%26name=LIGHTENING_STRIKE.jpg%26rcurl=http%253A%252F%252Fwww.captaingfb.com%252Fweatherlinks.html%26rurl=http%253A%252F%252Fwww.captaingfb.com%252Fweatherlinks.html%26p=lightening%26type=jpeg%26no=2%26tt=24%252C493%26fr=FP-tab-web-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ww.captaingfb.com/LIGHTENING_STRI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lectricity on the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y Donald and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4320" y="2565360"/>
            <a:ext cx="150804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flipH="1">
            <a:off x="7578720" y="2565360"/>
            <a:ext cx="1565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t is hazardou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se electrical appliances near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verload electrical circuits, use faulty appliances, tamper with electrical app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ng children should always be protected against the hazards of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Electric Circui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lectrical components only work when they are a part of a complet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lectrical components are such things as bulbs, batteries, buzzers, resisto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witches are used to control electric circuits by switching them on/of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rcu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35280" y="1268280"/>
          <a:ext cx="561636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61636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witch that you find to control a light is called a flip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keyboard that we used for this presentation contains a push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3280" y="2781360"/>
          <a:ext cx="381960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81360"/>
                    <a:ext cx="38196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92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925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lectric Hospital tro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 motor is an electrical component which transfers electrical energy to kinetic energy. An electrical trolley shows this in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dding more batteries increases the voltage. This makes the current flow and makes the trolley move f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www.cobb.k12.ga.us/~Simpson/Teacher%20Sites/Teacher%20Sites/Electric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www.schellelectronics.com/SE%20WEB%20Pictures/Power%20of%20Electricit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 current is a flow of char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urrent is measured in amperes/amps for sh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sing a resisto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sisters are used to control the size of current that flow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ig resistors allow only small currents to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mall resistors allow large currents to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re are two types of resistor fixed and variable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You can control the speed of the trolley with a variable resistor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227640" y="1844640"/>
            <a:ext cx="15573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8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385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92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192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192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192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I hope you have enjoyed our presenta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0" spc="-1" strike="noStrike" u="sng">
                <a:solidFill>
                  <a:srgbClr val="ff0000"/>
                </a:solidFill>
                <a:uFillTx/>
                <a:latin typeface="Monotype Corsiva"/>
              </a:rPr>
              <a:t>The End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41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0:26Z</dcterms:created>
  <dc:creator>HalbertD</dc:creator>
  <dc:description/>
  <dc:language>en-US</dc:language>
  <cp:lastModifiedBy>Halbertd</cp:lastModifiedBy>
  <dcterms:modified xsi:type="dcterms:W3CDTF">2006-01-26T15:16:52Z</dcterms:modified>
  <cp:revision>14</cp:revision>
  <dc:subject/>
  <dc:title>Electricity on the move</dc:title>
</cp:coreProperties>
</file>