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FFC-A60F-405B-BB27-BF513855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88D-1743-4013-85B6-66DFCEF5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4A9-C773-44CD-BE40-059BB4D2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6C1-7761-41B7-9967-1F1A1F32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ED64-2C1F-433C-8B8F-F17C01E9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B988-C4F4-4820-89F8-7258636F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5BB7-3247-42C9-B712-12DEAB7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2402-8CA1-4B28-A890-204F29A2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9301-0CE3-4DCF-AAF1-52EE678B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FD4F-52B9-4489-87B1-2C919D84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548E-FF19-4B54-B26F-8324EB8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258-33D9-466D-9771-544786AA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5214-FFD9-47EA-B033-D91F8195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850C-46B0-4B8C-BB2F-23E67F7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33F7-2EEC-44F8-B509-5A67D60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9224-0037-4836-8F86-13A92F64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4F99-FA08-4164-8B50-D2E92EE5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DD235-8E11-4A60-ACAC-19AA2E9A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C6AC6-29C8-4805-A490-4045DA91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4C55F-5F9B-4AC5-846F-A4BD94BE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958BF-949C-43A1-931E-8432FD1C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7AFD5-7C42-46DC-A22B-1BB7D28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5CA-34C6-4ED9-A6A4-64CBD816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CF8B1-8354-443B-969E-194F7ED2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2438A-4CE6-44A3-BB7E-F83E226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3B933-CD0C-4AD3-A3CF-9CB39A7C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918C4-980B-46EA-A602-E40D71C1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6F0A8-3540-4000-9C82-E43C45F6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176BD-4965-430D-B01E-9A162940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3D875-07CA-4D20-BC6A-F0C28A52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C68A-3FE0-46F9-BED3-7E536784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8BA1-2EFE-4824-B144-679595B9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E22FB-10C7-4B65-BDAC-45D1F75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829-5526-4093-827F-FCA356CC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F2B42-ABDD-4274-942B-29313C5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DA79-35AB-4C25-9C64-1FD3AEE3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9430B-2C05-4307-9A68-1DC288CA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BF3E-D9CC-41C2-A94D-2947D8AD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F3E0-97FF-405C-9637-02B58701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401E6-91DA-459B-B48C-31C01E92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D0554-F7E7-4D45-A601-26D39BA6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2651-2160-49AE-B131-2FEA86C9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5307-4A3C-46FE-8695-0D3828D6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EFA-06E7-4CC9-9A19-06D84805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463-52A4-408A-A540-36BDCAE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30C-F7BB-4531-AFCD-CFFF97C7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874-2FA2-4805-980F-84F51FC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224-4399-466B-AA9C-12F001F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8E58-766A-4DE1-ACE8-84CB6D9B9A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89D-3A2B-4CD7-B31D-9433AE1197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9F66-B992-43B3-871F-8567A8852A94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F4A-677E-430D-AACE-9BE412374DDA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lectricity At Work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68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trina and H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320040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ope you enjoyed our 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earned more ab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ity at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5400" spc="-1" strike="noStrike">
                <a:solidFill>
                  <a:srgbClr val="ffffff"/>
                </a:solidFill>
                <a:latin typeface="Blackadder ITC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ic Electric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lating materials can be charged with static electricity by rubbing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electricity can make things m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2 kinds of charge, positive and negative.                                                                                                                 Positive + Negative = Attraction                                         Negative + Negative = No At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+ Positive = No Attraction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oms &amp; Electr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is made of A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 have both  positive &amp;  negative char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itive charge is on the protons and the negative charge is on the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a rub a polythene rod with a cloth some of the electrons  move from the cloth to the rod. The rod now has a negative charge and the cloth has a posi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electrons can m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under &amp; Light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under and lightning is caused when a cloud becomes charged with static electric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rge build up causes a spa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under noise is caused by the lightning jumping between the cloud and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ning conductors help to protect buil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magnets are fixed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can be used to find No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ar magnet can be used to make a pin into a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north poles and two south poles will re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poles will at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gnetic fiel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ace around a magnet is called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on filings can be used to find the shape of the magnetic fie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ic fields go from north to sou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lectro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currents can be used to make electro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lectromagnet is an iron rod with a coil of wire wrapped aroun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long as there is electricity flowing through the wire the electromagnet will work like a bar 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can be used to make buzzers &amp; b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ay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lay is a switch that is turned on &amp; off by an electromagn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ed switch that is turned on &amp; off by a electromagnet is called a reed re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ys are used to make switches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s use relay switches to  turn on the starter mo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98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ing Magn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lots of uses for magn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ts are used in loudspeakers, fridge doors &amp; sump plug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rains use electromagnets instead of whe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s are used to move iron &amp; ste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15Z</dcterms:created>
  <dc:creator>macleankatr</dc:creator>
  <dc:description/>
  <dc:language>en-US</dc:language>
  <cp:lastModifiedBy>GashH</cp:lastModifiedBy>
  <dcterms:modified xsi:type="dcterms:W3CDTF">2006-01-26T15:25:21Z</dcterms:modified>
  <cp:revision>6</cp:revision>
  <dc:subject/>
  <dc:title>Electricity At Work</dc:title>
</cp:coreProperties>
</file>