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B7B-54F6-4213-8DC8-9AD371A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A60-0B2B-4AC3-969A-4C89F65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A74-F216-4BFE-ADCC-9F73B51B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B67-7A1C-449B-BEDF-0724313E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8003-FEE0-46CF-86D3-43DB098B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953-E9FA-4BAC-A6E3-AED34579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9D75-A7D3-475D-AB8A-A420E2E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1FC-5832-4606-910C-B7D4662C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26AA-7B0F-4C1A-A376-696FE8BF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82F2-08F3-4D8D-BDFF-D322A677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3A2-353B-4AD4-BE5D-2B09640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B2A-A5B2-4FFB-B4EA-AC9C8F47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6ED7-5D82-49D8-852F-AFE46B2B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1BF-1989-4925-AF50-AFCDEF3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1342-7FED-46E2-937F-3353FA82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7074-9823-474E-A49D-3A6BF325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BD4C-A702-48C4-921B-88EC548E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80F2E-D9ED-4FDE-9C59-BB4983AB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DD4EE-EE1A-403B-8986-8E3A7B40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977AC-9C4D-4F5F-BD76-7B421927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FF573-EB0A-458E-9229-03F582C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2DA3C-7EF4-4B66-AEE3-447C3CD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8B1-4FD3-4E9D-801D-7B70D206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A6416-F2E0-49D9-8173-6E88E112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09BC-7C50-43B6-8CFA-635415E7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4B418-D102-47E0-A03E-443DE62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A8ED1-9E0F-42FE-96D2-0A71F01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EFAA3-2270-4954-BB0C-6B6BD75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AF251-B08B-4C0F-BF96-18F87E9F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273D2-67F7-45A9-B909-0A83DD07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449A-22B7-45DD-BD35-5607AD8D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68B3-F1E0-453B-83F0-4297888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5137-8A1D-4D07-BAA0-20F8D316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A56-2C02-42CF-A701-26B1493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F7F59-AC03-4CDA-8D82-D97F450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1088-5ED5-4AC4-AD1E-D187F2F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E03D-D7BB-4A93-A914-122ED5D3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53C48-58BA-4F89-BED2-BCE4CB49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9A55-4CD5-4252-90F4-CF2DF0B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97A0C-CB0D-4B15-8380-B5DD6947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AA885-77CB-4E30-AD49-CFE8EEB9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1336-8B81-42EF-9A36-2F7A2557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D056-0519-4A81-AA5A-38B6C9D6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76-87B4-4612-834F-4DB3347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1BB-F181-4FFC-AF30-BE94667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6CD-B2D2-450B-AF50-9FBF299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8EA-389A-4DE6-BD75-7552ECB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2D61-1CCE-4394-95E5-43D0FF2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077C-A52A-4E94-98B5-2706C9F3BF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487C-C4D5-4E19-A971-4CFF23DB54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B380-B648-4D38-85E8-EDAF7BB4B536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89E1-893A-4257-B05E-D7856E6B16A7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ectricity At Wor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68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trina and H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ope you enjoyed our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arned mo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ity at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Blackadder ITC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ating materials can be charged with static electricity by rubbing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electricity can make things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kinds of charge, positive and negative.                                                                                                                 Positive + Negative = Attraction                                         Negative + Negative = No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+ Positive = No Attraction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s &amp;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is made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have both  positive &amp;  negativ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charge is on the protons and the negative charge is on th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 rub a polythene rod with a cloth some of the electrons  move from the cloth to the rod. The rod now has a negative charge and the cloth has a posi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lectrons can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under &amp; Light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nder and lightning is caused when a cloud becomes charged with static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build up causes a s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under noise is caused by the lightning jumping between the cloud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ning conductors help to protect buil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magnets are fixed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can be used to find No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 magnet can be used to make a pin into a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north poles and two south poles will re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poles will at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ic fiel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ace around a magnet is called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filings can be used to find the shape of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fields go from north to s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currents can be used to make electro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magnet is an iron rod with a coil of wire wrapped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ere is electricity flowing through the wire the electromagnet will work like a bar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can be used to make buzzers &amp; b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lay is a switch that is turned on &amp; off by an electro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ed switch that is turned on &amp; off by a electromagnet is called a reed re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ys are used to make switches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s use relay switches to  turn on the starter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lots of uses for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are used in loudspeakers, fridge doors &amp; sump plu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rains use electromagnets instead of whe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are used to move iron &amp; 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15Z</dcterms:created>
  <dc:creator>macleankatr</dc:creator>
  <dc:description/>
  <dc:language>en-US</dc:language>
  <cp:lastModifiedBy>GashH</cp:lastModifiedBy>
  <dcterms:modified xsi:type="dcterms:W3CDTF">2006-01-26T15:25:21Z</dcterms:modified>
  <cp:revision>6</cp:revision>
  <dc:subject/>
  <dc:title>Electricity At Work</dc:title>
</cp:coreProperties>
</file>